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2.jpeg" ContentType="image/jpeg"/>
  <Override PartName="/ppt/media/image11.png" ContentType="image/png"/>
  <Override PartName="/ppt/media/image16.jpeg" ContentType="image/jpeg"/>
  <Override PartName="/ppt/media/image15.jpeg" ContentType="image/jpeg"/>
  <Override PartName="/ppt/media/image1.wmf" ContentType="image/x-wmf"/>
  <Override PartName="/ppt/media/image9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4.jpeg" ContentType="image/jpeg"/>
  <Override PartName="/ppt/media/image8.png" ContentType="image/png"/>
  <Override PartName="/ppt/media/image7.jpeg" ContentType="image/jpe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A816B6D-3456-4E26-8F9B-257F1969A0B6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0C3F1E4-89BE-4C8E-99DD-268B8FBC0DE5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195AB8B-D421-437B-9DB4-2E903E841BA8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231E54F-F417-4E76-9749-005057A6D080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455B7CD-B354-404E-A0DC-7F1F21827918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C63812F-1C18-46EF-8455-ED338D89AD9C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AA5328B-8EBC-4CFF-B40F-7E497F934F98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B13C231-F39D-4B93-A46F-84DA91AC9A79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8E3FB02-A119-479B-AC08-3FF66A73D38C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769842-495B-4BAB-AB99-D62999085E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AF03F2-03B5-4F4F-A5B9-4638CFDA3238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B5B59D-7DA0-4871-974D-0A293E20FAC0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943097-5988-430A-9225-B01BD9D5915D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CA5793-682A-49E0-BB30-4A78A6B2F23D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6A1834-58DE-4DC7-BDAE-4B8C2B95846C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CFC2F1-DD84-497D-A519-A77F96A0F9E6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836708-8FC1-4D91-A013-B8B42E207ADF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07954C-DAAD-42DD-8D94-4E8E73A7C812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5FE447-7D19-460D-B347-45CF122BF297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24F8C4-6521-4628-8CAE-48F78BD599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32FD5E-3328-4E02-A515-BFFE5E6324B8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C4B8AB1-0FC0-4601-98DD-BED57234FC68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BCB7B20-336C-4F82-93CC-3A23BF74FD3A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9E8AC34-A14A-4338-9763-13AE6F27ABE3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4648E6E-DE18-4545-BECF-5DCC393ABA25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1FEC3E1-FE29-446D-B083-398A6C5F3546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233F95E-58CC-4DBA-AEDA-7AFA64B82955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30159AA-495F-457F-93BE-7ABFAD10B8A0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439C1F0-BAEB-4DDA-93C7-D41EC0D09EC1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B38343F-CEA2-4ED9-A4EE-E720DFD3F0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FE5A89-01F8-4618-8F87-51E6DE119196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433F7CE-7A26-449E-A9F0-E30B7D817449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94496B0-1E9E-4632-A07E-5DBF99F52900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C09C40D-85A9-4CD7-BA1B-BF7B48CE8F5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58490D-C5B4-4D3C-8A9D-8DA89153561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E110D6-C718-4D02-A6D0-73F128632C7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766DC5-63D9-4854-AA13-7FADDD4879D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939B64-52DD-4A6C-81D1-A5FF0A37690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1ECA22-9929-4536-81C9-5720587BA97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34CCDC-A00C-448C-BE53-5AA88AD6B55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BC49D2-DA24-480F-B33E-69B65567AC6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A7C1DC-8308-410D-948F-AECFA865F33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41C893-C1F5-4A38-A114-D980D2E794A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B464E5-7560-4834-8B84-21991A67497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0390ED-5F15-46E7-9AC9-6F7F74A849D3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E7376B-A744-4551-AF3E-6231369506D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DA2172-7728-4BC0-8396-0106EB8C196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CD476D-E7F8-46B0-90EB-3D4557D5EE6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57EE42-6292-4D4B-A2AF-B761A960CC4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93FC3B-C93D-489D-9746-3CE4CFB74BC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481EEE-CEE8-43ED-AB20-BC27B280A2D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5BD2F3-FDDB-4910-8FF0-8B279567D09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1C3601-5333-492C-A8B1-30032E1FD94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05447B-775D-4412-AD97-F59F2EE6F8F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09A43F-8305-4B27-ABBE-7A0110D6326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0A5155-34A2-4769-AE41-C89557E357B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C66A96-7437-46EC-B3CB-1794FE059E88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800D4-9829-4DAB-A29E-30E5F8AABD4E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F9B9B-B0B2-4C90-9820-85F8E62A7089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A674E-82DA-4EB3-82B9-9DF30FCFA4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22EA3-29D3-41C2-A791-46F1274E47FE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7FEE9-BA88-40DC-8AFC-82314BECDA4F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5C6D2-EFA6-4187-8DF9-BA70E0C3A5C6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3924B-2AF4-4536-9B3F-535AC90B71A0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B9E6D-ED34-4D52-992D-13BEB1FBA2E3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36B15-17C5-4A4D-A616-763513597EB2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B424A-9FF5-4692-90A4-5B27D3590010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4D0A2-0D91-4EE5-85CE-A4E22A2B439B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9CCEA-4377-4D9C-8A84-9876C68B0A19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7020B0-DAEF-44BB-9E20-3EBE8F8C8E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965F58D-AA45-42B5-B78A-6C6834AF0DEB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1978640-1025-4322-80F0-A2B8DCFAE32B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28E8ACE-D743-4A39-8224-1AFDB323F503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90A3F2-3F15-46A3-BA82-6AEDE9DBD85C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18BC04E-DCBC-4122-A5DB-C6CEB1953A04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3416984-EAF1-4EFA-BAC2-D32B31265114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BA50AF7-0AF0-4893-9D17-8EEBC7D5F3AE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032C42-1707-49DB-B56B-B4373153E8B4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1DE831B-E5DE-4202-B3FF-878EC0539E3E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53D9B33-333F-408E-9F84-03F7E076D9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EFB921B-DE11-4F69-BCF2-6AD60BC2A7F5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34A09F9-9B22-41A2-8BD2-A357AEBBABA5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30EC2BD-96DA-4D64-80FB-F60FA1337712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8E9C95D-C1AA-4976-AC50-0B1E3BC09D22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3989D80-FA5A-4564-BCA6-6AB1E1A483E0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4C5A708-6841-4D22-A68A-C9236D92C023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2BCF52E-27BD-4AF5-B061-C55D95AD3EB8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C2BED49-38FD-4921-AF43-47D957BA5BE1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34DD22F-F28D-4C3A-93FB-9F05E420D150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28C5D5F-9E13-4C3E-B1A4-18E529EA9B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36E2AF0-887F-43A7-A0DD-93A961A43FC8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8F93B03-BBEA-448D-A4E0-FCB7FD41859F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3A87881-5F34-425D-9FC7-9D6AC6F9B5C6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00A8A6-3F33-4D32-A636-CDD60A69B071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FA9632-4400-42AA-9DA0-32CF3F72EC3C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8E6117-AE70-4A46-952F-9F4253EAB0F5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870287-8546-46D5-ABEF-C74BE316BE67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0B9134-9A6E-4258-BE3F-6B86BD1016C5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4250BE-8397-4737-8639-947CB54EA24D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BE7353-6B47-42D9-B44C-3936AF14AD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10B4FD-55DB-4A85-8A0A-561EEC82F99C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5DEAF4-2DA6-44B5-8340-8111421F8208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B2D033-0DEC-40CD-93B1-AD0387358E0B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253B62-6003-41D7-84C8-D4D8B7A13C87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0AE166-00D1-41A3-91FF-487ABD339416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3BD2AF0-29ED-44C1-B9A0-B7E49239EEBC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93514C9-06D5-405B-ACA6-66A38442985D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D9AFAAD-955F-436C-B444-E14BD12C1518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5030C22-0EAE-42A2-92C9-11E59F65B8BE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12F8E83-7926-4A5A-94E0-1296C37A7A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D96C9ED-F02C-4FDC-83E6-B0B3B08F5B54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E6EA723-C1AA-41C2-89AC-923AB308F77E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D3F4A12-F8C5-438D-A585-D7E0830FF2F9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383F80E-123B-4506-A762-1289C8BD731E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64CA451-20D5-468B-BD1B-2E05B267D897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B137210-8D81-4F21-B335-D2DCDA88B94B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62239B6-650E-4A10-80A4-29B755AB1E2C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ED8DAD1-CEE3-442C-A110-E4D1782D5520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1A4570D-9DD6-4668-9761-18F4D731E82B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14A51BE-7102-4200-8A2E-45515C4975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46"/>
          <p:cNvSpPr/>
          <p:nvPr/>
        </p:nvSpPr>
        <p:spPr>
          <a:xfrm>
            <a:off x="0" y="6578640"/>
            <a:ext cx="9144000" cy="3049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Rectangle 8"/>
          <p:cNvSpPr/>
          <p:nvPr/>
        </p:nvSpPr>
        <p:spPr>
          <a:xfrm>
            <a:off x="0" y="0"/>
            <a:ext cx="9313920" cy="8301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" name="Picture 8" descr=""/>
          <p:cNvPicPr/>
          <p:nvPr/>
        </p:nvPicPr>
        <p:blipFill>
          <a:blip r:embed="rId2"/>
          <a:srcRect l="0" t="0" r="0" b="20622"/>
          <a:stretch/>
        </p:blipFill>
        <p:spPr>
          <a:xfrm>
            <a:off x="-227160" y="-19080"/>
            <a:ext cx="1089000" cy="85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1046"/>
          <p:cNvSpPr/>
          <p:nvPr/>
        </p:nvSpPr>
        <p:spPr>
          <a:xfrm>
            <a:off x="0" y="6578640"/>
            <a:ext cx="9144000" cy="3049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8" name="Rectangle 8"/>
          <p:cNvSpPr/>
          <p:nvPr/>
        </p:nvSpPr>
        <p:spPr>
          <a:xfrm>
            <a:off x="0" y="0"/>
            <a:ext cx="9313920" cy="8301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69" name="Picture 8" descr=""/>
          <p:cNvPicPr/>
          <p:nvPr/>
        </p:nvPicPr>
        <p:blipFill>
          <a:blip r:embed="rId2"/>
          <a:srcRect l="0" t="0" r="0" b="20622"/>
          <a:stretch/>
        </p:blipFill>
        <p:spPr>
          <a:xfrm>
            <a:off x="-227160" y="-19080"/>
            <a:ext cx="1089000" cy="851040"/>
          </a:xfrm>
          <a:prstGeom prst="rect">
            <a:avLst/>
          </a:prstGeom>
          <a:ln w="0">
            <a:noFill/>
          </a:ln>
        </p:spPr>
      </p:pic>
      <p:sp>
        <p:nvSpPr>
          <p:cNvPr id="370" name="PlaceHolder 1"/>
          <p:cNvSpPr>
            <a:spLocks noGrp="1"/>
          </p:cNvSpPr>
          <p:nvPr>
            <p:ph type="ftr" idx="17"/>
          </p:nvPr>
        </p:nvSpPr>
        <p:spPr>
          <a:xfrm>
            <a:off x="12600" y="6590880"/>
            <a:ext cx="5562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azione test ammissione facoltà architettura e design a.a.06707presentazione test di ammissione alle facol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à di architettura – a.a.2005/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ldNum" idx="18"/>
          </p:nvPr>
        </p:nvSpPr>
        <p:spPr>
          <a:xfrm>
            <a:off x="6972120" y="6400800"/>
            <a:ext cx="19047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C8990-1358-4E2E-B0F1-10E7C514DA89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1046"/>
          <p:cNvSpPr/>
          <p:nvPr/>
        </p:nvSpPr>
        <p:spPr>
          <a:xfrm>
            <a:off x="0" y="6578640"/>
            <a:ext cx="9144000" cy="3049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9" name="Rectangle 8"/>
          <p:cNvSpPr/>
          <p:nvPr/>
        </p:nvSpPr>
        <p:spPr>
          <a:xfrm>
            <a:off x="0" y="0"/>
            <a:ext cx="9313920" cy="8301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10" name="Picture 8" descr=""/>
          <p:cNvPicPr/>
          <p:nvPr/>
        </p:nvPicPr>
        <p:blipFill>
          <a:blip r:embed="rId2"/>
          <a:srcRect l="0" t="0" r="0" b="20622"/>
          <a:stretch/>
        </p:blipFill>
        <p:spPr>
          <a:xfrm>
            <a:off x="-227160" y="-19080"/>
            <a:ext cx="1089000" cy="851040"/>
          </a:xfrm>
          <a:prstGeom prst="rect">
            <a:avLst/>
          </a:prstGeom>
          <a:ln w="0">
            <a:noFill/>
          </a:ln>
        </p:spPr>
      </p:pic>
      <p:sp>
        <p:nvSpPr>
          <p:cNvPr id="411" name="PlaceHolder 1"/>
          <p:cNvSpPr>
            <a:spLocks noGrp="1"/>
          </p:cNvSpPr>
          <p:nvPr>
            <p:ph type="ftr" idx="19"/>
          </p:nvPr>
        </p:nvSpPr>
        <p:spPr>
          <a:xfrm>
            <a:off x="12600" y="6590880"/>
            <a:ext cx="5562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sentazione test ammissione facoltà architettura e design a.a.06707presentazione test di ammissione alle facolt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à di architettura – a.a.2005/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ldNum" idx="20"/>
          </p:nvPr>
        </p:nvSpPr>
        <p:spPr>
          <a:xfrm>
            <a:off x="6972120" y="6400800"/>
            <a:ext cx="19047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FDB3D-D01B-4E97-ADCC-CDC4ED19556F}" type="slidenum">
              <a:rPr b="0" lang="en-US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Rectangle 1046"/>
          <p:cNvSpPr/>
          <p:nvPr/>
        </p:nvSpPr>
        <p:spPr>
          <a:xfrm>
            <a:off x="0" y="6578640"/>
            <a:ext cx="9144000" cy="3049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Rectangle 8"/>
          <p:cNvSpPr/>
          <p:nvPr/>
        </p:nvSpPr>
        <p:spPr>
          <a:xfrm>
            <a:off x="0" y="0"/>
            <a:ext cx="9313920" cy="8301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1" name="Picture 8" descr=""/>
          <p:cNvPicPr/>
          <p:nvPr/>
        </p:nvPicPr>
        <p:blipFill>
          <a:blip r:embed="rId2"/>
          <a:srcRect l="0" t="0" r="0" b="20622"/>
          <a:stretch/>
        </p:blipFill>
        <p:spPr>
          <a:xfrm>
            <a:off x="-227160" y="-19080"/>
            <a:ext cx="1089000" cy="8510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ftr" idx="1"/>
          </p:nvPr>
        </p:nvSpPr>
        <p:spPr>
          <a:xfrm>
            <a:off x="12600" y="6590880"/>
            <a:ext cx="5562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azione test ammissione facoltà architettura e design a.a.06707presentazione test di ammissione alle facol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à di architettura – a.a.2005/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ldNum" idx="2"/>
          </p:nvPr>
        </p:nvSpPr>
        <p:spPr>
          <a:xfrm>
            <a:off x="6972120" y="6400800"/>
            <a:ext cx="19047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7FBDD-1FF5-4BF0-B836-C49C4396A618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046"/>
          <p:cNvSpPr/>
          <p:nvPr/>
        </p:nvSpPr>
        <p:spPr>
          <a:xfrm>
            <a:off x="0" y="6578640"/>
            <a:ext cx="9144000" cy="3049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Rectangle 8"/>
          <p:cNvSpPr/>
          <p:nvPr/>
        </p:nvSpPr>
        <p:spPr>
          <a:xfrm>
            <a:off x="0" y="0"/>
            <a:ext cx="9313920" cy="8301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82" name="Picture 8" descr=""/>
          <p:cNvPicPr/>
          <p:nvPr/>
        </p:nvPicPr>
        <p:blipFill>
          <a:blip r:embed="rId2"/>
          <a:srcRect l="0" t="0" r="0" b="20622"/>
          <a:stretch/>
        </p:blipFill>
        <p:spPr>
          <a:xfrm>
            <a:off x="-227160" y="-19080"/>
            <a:ext cx="1089000" cy="85104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ftr" idx="3"/>
          </p:nvPr>
        </p:nvSpPr>
        <p:spPr>
          <a:xfrm>
            <a:off x="12600" y="6590880"/>
            <a:ext cx="5562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azione test ammissione facoltà architettura e design a.a.06707presentazione test di ammissione alle facol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à di architettura – a.a.2005/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ldNum" idx="4"/>
          </p:nvPr>
        </p:nvSpPr>
        <p:spPr>
          <a:xfrm>
            <a:off x="6972120" y="6400800"/>
            <a:ext cx="19047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0CCFE-2D81-4F65-BF03-89456EAA6E54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1046"/>
          <p:cNvSpPr/>
          <p:nvPr/>
        </p:nvSpPr>
        <p:spPr>
          <a:xfrm>
            <a:off x="0" y="6578640"/>
            <a:ext cx="9144000" cy="3049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Rectangle 8"/>
          <p:cNvSpPr/>
          <p:nvPr/>
        </p:nvSpPr>
        <p:spPr>
          <a:xfrm>
            <a:off x="0" y="0"/>
            <a:ext cx="9313920" cy="8301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23" name="Picture 8" descr=""/>
          <p:cNvPicPr/>
          <p:nvPr/>
        </p:nvPicPr>
        <p:blipFill>
          <a:blip r:embed="rId2"/>
          <a:srcRect l="0" t="0" r="0" b="20622"/>
          <a:stretch/>
        </p:blipFill>
        <p:spPr>
          <a:xfrm>
            <a:off x="-227160" y="-19080"/>
            <a:ext cx="1089000" cy="85104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ftr" idx="5"/>
          </p:nvPr>
        </p:nvSpPr>
        <p:spPr>
          <a:xfrm>
            <a:off x="12600" y="6590880"/>
            <a:ext cx="5562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azione test ammissione facoltà architettura e design a.a.06707presentazione test di ammissione alle facol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à di architettura – a.a.2005/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ldNum" idx="6"/>
          </p:nvPr>
        </p:nvSpPr>
        <p:spPr>
          <a:xfrm>
            <a:off x="6972120" y="6400800"/>
            <a:ext cx="19047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436E7-3729-4A99-84EC-329E5C5E5475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1046"/>
          <p:cNvSpPr/>
          <p:nvPr/>
        </p:nvSpPr>
        <p:spPr>
          <a:xfrm>
            <a:off x="0" y="6578640"/>
            <a:ext cx="9144000" cy="3049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Rectangle 8"/>
          <p:cNvSpPr/>
          <p:nvPr/>
        </p:nvSpPr>
        <p:spPr>
          <a:xfrm>
            <a:off x="0" y="0"/>
            <a:ext cx="9313920" cy="8301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4" name="Picture 8" descr=""/>
          <p:cNvPicPr/>
          <p:nvPr/>
        </p:nvPicPr>
        <p:blipFill>
          <a:blip r:embed="rId2"/>
          <a:srcRect l="0" t="0" r="0" b="20622"/>
          <a:stretch/>
        </p:blipFill>
        <p:spPr>
          <a:xfrm>
            <a:off x="-227160" y="-19080"/>
            <a:ext cx="1089000" cy="85104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ftr" idx="7"/>
          </p:nvPr>
        </p:nvSpPr>
        <p:spPr>
          <a:xfrm>
            <a:off x="12600" y="6590880"/>
            <a:ext cx="5562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azione test ammissione facoltà architettura e design a.a.06707presentazione test di ammissione alle facol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à di architettura – a.a.2005/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ldNum" idx="8"/>
          </p:nvPr>
        </p:nvSpPr>
        <p:spPr>
          <a:xfrm>
            <a:off x="6972120" y="6400800"/>
            <a:ext cx="19047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9674A-5CB4-4FCF-9B9D-2082FFE19486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1046"/>
          <p:cNvSpPr/>
          <p:nvPr/>
        </p:nvSpPr>
        <p:spPr>
          <a:xfrm>
            <a:off x="0" y="6578640"/>
            <a:ext cx="9144000" cy="3049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Rectangle 8"/>
          <p:cNvSpPr/>
          <p:nvPr/>
        </p:nvSpPr>
        <p:spPr>
          <a:xfrm>
            <a:off x="0" y="0"/>
            <a:ext cx="9313920" cy="8301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5" name="Picture 8" descr=""/>
          <p:cNvPicPr/>
          <p:nvPr/>
        </p:nvPicPr>
        <p:blipFill>
          <a:blip r:embed="rId2"/>
          <a:srcRect l="0" t="0" r="0" b="20622"/>
          <a:stretch/>
        </p:blipFill>
        <p:spPr>
          <a:xfrm>
            <a:off x="-227160" y="-19080"/>
            <a:ext cx="1089000" cy="851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ftr" idx="9"/>
          </p:nvPr>
        </p:nvSpPr>
        <p:spPr>
          <a:xfrm>
            <a:off x="12600" y="6590880"/>
            <a:ext cx="5562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azione test ammissione facoltà architettura e design a.a.06707presentazione test di ammissione alle facol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à di architettura – a.a.2005/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ldNum" idx="10"/>
          </p:nvPr>
        </p:nvSpPr>
        <p:spPr>
          <a:xfrm>
            <a:off x="6972120" y="6400800"/>
            <a:ext cx="19047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C6A7A-22E2-4962-9B72-C7C8F0CC0AA9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1046"/>
          <p:cNvSpPr/>
          <p:nvPr/>
        </p:nvSpPr>
        <p:spPr>
          <a:xfrm>
            <a:off x="0" y="6578640"/>
            <a:ext cx="9144000" cy="3049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Rectangle 8"/>
          <p:cNvSpPr/>
          <p:nvPr/>
        </p:nvSpPr>
        <p:spPr>
          <a:xfrm>
            <a:off x="0" y="0"/>
            <a:ext cx="9313920" cy="8301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46" name="Picture 8" descr=""/>
          <p:cNvPicPr/>
          <p:nvPr/>
        </p:nvPicPr>
        <p:blipFill>
          <a:blip r:embed="rId2"/>
          <a:srcRect l="0" t="0" r="0" b="20622"/>
          <a:stretch/>
        </p:blipFill>
        <p:spPr>
          <a:xfrm>
            <a:off x="-227160" y="-19080"/>
            <a:ext cx="1089000" cy="85104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 type="ftr" idx="11"/>
          </p:nvPr>
        </p:nvSpPr>
        <p:spPr>
          <a:xfrm>
            <a:off x="12600" y="6590880"/>
            <a:ext cx="5562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azione test ammissione facoltà architettura e design a.a.06707presentazione test di ammissione alle facol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à di architettura – a.a.2005/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ldNum" idx="12"/>
          </p:nvPr>
        </p:nvSpPr>
        <p:spPr>
          <a:xfrm>
            <a:off x="6972120" y="6400800"/>
            <a:ext cx="19047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F2182-9F4C-42C1-8AE8-08BF54BB50BD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1046"/>
          <p:cNvSpPr/>
          <p:nvPr/>
        </p:nvSpPr>
        <p:spPr>
          <a:xfrm>
            <a:off x="0" y="6578640"/>
            <a:ext cx="9144000" cy="3049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6" name="Rectangle 8"/>
          <p:cNvSpPr/>
          <p:nvPr/>
        </p:nvSpPr>
        <p:spPr>
          <a:xfrm>
            <a:off x="0" y="0"/>
            <a:ext cx="9313920" cy="8301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87" name="Picture 8" descr=""/>
          <p:cNvPicPr/>
          <p:nvPr/>
        </p:nvPicPr>
        <p:blipFill>
          <a:blip r:embed="rId2"/>
          <a:srcRect l="0" t="0" r="0" b="20622"/>
          <a:stretch/>
        </p:blipFill>
        <p:spPr>
          <a:xfrm>
            <a:off x="-227160" y="-19080"/>
            <a:ext cx="1089000" cy="851040"/>
          </a:xfrm>
          <a:prstGeom prst="rect">
            <a:avLst/>
          </a:prstGeom>
          <a:ln w="0">
            <a:noFill/>
          </a:ln>
        </p:spPr>
      </p:pic>
      <p:sp>
        <p:nvSpPr>
          <p:cNvPr id="288" name="PlaceHolder 1"/>
          <p:cNvSpPr>
            <a:spLocks noGrp="1"/>
          </p:cNvSpPr>
          <p:nvPr>
            <p:ph type="ftr" idx="13"/>
          </p:nvPr>
        </p:nvSpPr>
        <p:spPr>
          <a:xfrm>
            <a:off x="12600" y="6590880"/>
            <a:ext cx="5562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azione test ammissione facoltà architettura e design a.a.06707presentazione test di ammissione alle facol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à di architettura – a.a.2005/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ldNum" idx="14"/>
          </p:nvPr>
        </p:nvSpPr>
        <p:spPr>
          <a:xfrm>
            <a:off x="6972120" y="6400800"/>
            <a:ext cx="19047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B33C0-83FD-4B9A-972D-4A05B91D85CA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1046"/>
          <p:cNvSpPr/>
          <p:nvPr/>
        </p:nvSpPr>
        <p:spPr>
          <a:xfrm>
            <a:off x="0" y="6578640"/>
            <a:ext cx="9144000" cy="3049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" name="Rectangle 8"/>
          <p:cNvSpPr/>
          <p:nvPr/>
        </p:nvSpPr>
        <p:spPr>
          <a:xfrm>
            <a:off x="0" y="0"/>
            <a:ext cx="9313920" cy="8301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28" name="Picture 8" descr=""/>
          <p:cNvPicPr/>
          <p:nvPr/>
        </p:nvPicPr>
        <p:blipFill>
          <a:blip r:embed="rId2"/>
          <a:srcRect l="0" t="0" r="0" b="20622"/>
          <a:stretch/>
        </p:blipFill>
        <p:spPr>
          <a:xfrm>
            <a:off x="-227160" y="-19080"/>
            <a:ext cx="1089000" cy="851040"/>
          </a:xfrm>
          <a:prstGeom prst="rect">
            <a:avLst/>
          </a:prstGeom>
          <a:ln w="0">
            <a:noFill/>
          </a:ln>
        </p:spPr>
      </p:pic>
      <p:sp>
        <p:nvSpPr>
          <p:cNvPr id="329" name="PlaceHolder 1"/>
          <p:cNvSpPr>
            <a:spLocks noGrp="1"/>
          </p:cNvSpPr>
          <p:nvPr>
            <p:ph type="ftr" idx="15"/>
          </p:nvPr>
        </p:nvSpPr>
        <p:spPr>
          <a:xfrm>
            <a:off x="12600" y="6590880"/>
            <a:ext cx="5562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azione test ammissione facoltà architettura e design a.a.06707presentazione test di ammissione alle facol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à di architettura – a.a.2005/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ldNum" idx="16"/>
          </p:nvPr>
        </p:nvSpPr>
        <p:spPr>
          <a:xfrm>
            <a:off x="6972120" y="6400800"/>
            <a:ext cx="19047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897FF-6FE0-4364-BD36-C54501EB5AD2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Rectangle 2"/>
          <p:cNvSpPr/>
          <p:nvPr/>
        </p:nvSpPr>
        <p:spPr>
          <a:xfrm>
            <a:off x="539640" y="1341360"/>
            <a:ext cx="82155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Corso: </a:t>
            </a:r>
            <a:r>
              <a:rPr b="1" lang="it-IT" sz="1800" spc="-1" strike="noStrike">
                <a:solidFill>
                  <a:srgbClr val="ff3300"/>
                </a:solidFill>
                <a:latin typeface="Verdana"/>
              </a:rPr>
              <a:t>Nanotecnologie e materiali funzionali per il design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Docente: Prof.ssa Barbara Del Curto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CdLM a cui è offerto: tutti i CdLM 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Semestre: 2°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Lingua di erogazione: italiano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N° max studenti ammessi: 60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Modalità d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esame per non frequentanti: SI 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0" name="Text Box 3"/>
          <p:cNvSpPr/>
          <p:nvPr/>
        </p:nvSpPr>
        <p:spPr>
          <a:xfrm>
            <a:off x="991800" y="158760"/>
            <a:ext cx="682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3300"/>
                </a:solidFill>
                <a:latin typeface="Arial"/>
              </a:rPr>
              <a:t>Corsi a scelta Laurea Magistrale - 2° semestre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1" name="Text Box 3"/>
          <p:cNvSpPr/>
          <p:nvPr/>
        </p:nvSpPr>
        <p:spPr>
          <a:xfrm>
            <a:off x="4788000" y="6583320"/>
            <a:ext cx="435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Presentazione Corsi a scelta II Livello – 9 settembre </a:t>
            </a:r>
            <a:r>
              <a:rPr b="1" lang="ja-JP" sz="1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2" name="Rectangle 2"/>
          <p:cNvSpPr/>
          <p:nvPr/>
        </p:nvSpPr>
        <p:spPr>
          <a:xfrm>
            <a:off x="611280" y="3860640"/>
            <a:ext cx="8280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Verdana"/>
              </a:rPr>
              <a:t>Obiettivo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Verdana"/>
              </a:rPr>
              <a:t>Sviluppare la sensibilità del futuro progettista nei confronti delle tecnologie e dei materiali innovativi per il design e in particolare delle nanotecnologie e dei materiali funzionali 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3" name="Rectangle 3"/>
          <p:cNvSpPr/>
          <p:nvPr/>
        </p:nvSpPr>
        <p:spPr>
          <a:xfrm>
            <a:off x="611280" y="2276640"/>
            <a:ext cx="8069040" cy="29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Text Box 3"/>
          <p:cNvSpPr/>
          <p:nvPr/>
        </p:nvSpPr>
        <p:spPr>
          <a:xfrm>
            <a:off x="991800" y="158760"/>
            <a:ext cx="682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3300"/>
                </a:solidFill>
                <a:latin typeface="Arial"/>
              </a:rPr>
              <a:t>Corsi a scelta Laurea Magistrale - 2° semestre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5" name="Rectangle 2"/>
          <p:cNvSpPr/>
          <p:nvPr/>
        </p:nvSpPr>
        <p:spPr>
          <a:xfrm>
            <a:off x="468360" y="1773360"/>
            <a:ext cx="8496360" cy="30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52440" indent="-352440">
              <a:spcBef>
                <a:spcPts val="901"/>
              </a:spcBef>
              <a:spcAft>
                <a:spcPts val="201"/>
              </a:spcAft>
              <a:tabLst>
                <a:tab algn="l" pos="0"/>
                <a:tab algn="l" pos="334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Verdana"/>
              </a:rPr>
              <a:t>Oggi </a:t>
            </a:r>
            <a:r>
              <a:rPr b="1" lang="it-IT" sz="16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1" lang="it-IT" sz="16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1" lang="it-IT" sz="16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1" lang="it-IT" sz="16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1" lang="it-IT" sz="16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1" lang="it-IT" sz="1600" spc="-1" strike="noStrike">
                <a:solidFill>
                  <a:srgbClr val="ff0000"/>
                </a:solidFill>
                <a:latin typeface="Verdana"/>
              </a:rPr>
              <a:t>Materiali innovativi:</a:t>
            </a:r>
            <a:r>
              <a:rPr b="1" lang="it-IT" sz="16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1" lang="it-IT" sz="16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1" lang="it-IT" sz="16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1" lang="it-IT" sz="16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1" lang="it-IT" sz="16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1" lang="it-IT" sz="1600" spc="-1" strike="noStrike">
                <a:solidFill>
                  <a:srgbClr val="ff0000"/>
                </a:solidFill>
                <a:latin typeface="Verdana"/>
              </a:rPr>
              <a:t>                          applicazioni esistenti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52440" indent="-352440">
              <a:spcBef>
                <a:spcPts val="901"/>
              </a:spcBef>
              <a:spcAft>
                <a:spcPts val="201"/>
              </a:spcAft>
              <a:tabLst>
                <a:tab algn="l" pos="0"/>
                <a:tab algn="l" pos="334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52440" indent="-352440">
              <a:spcBef>
                <a:spcPts val="901"/>
              </a:spcBef>
              <a:spcAft>
                <a:spcPts val="201"/>
              </a:spcAft>
              <a:tabLst>
                <a:tab algn="l" pos="0"/>
                <a:tab algn="l" pos="334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52440" indent="-352440">
              <a:lnSpc>
                <a:spcPct val="50000"/>
              </a:lnSpc>
              <a:spcBef>
                <a:spcPts val="901"/>
              </a:spcBef>
              <a:spcAft>
                <a:spcPts val="201"/>
              </a:spcAft>
              <a:tabLst>
                <a:tab algn="l" pos="0"/>
                <a:tab algn="l" pos="334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Verdana"/>
              </a:rPr>
              <a:t>Domani</a:t>
            </a:r>
            <a:r>
              <a:rPr b="1" lang="it-IT" sz="16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1" lang="it-IT" sz="16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1" lang="it-IT" sz="16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1" lang="it-IT" sz="16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1" lang="it-IT" sz="16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1" lang="it-IT" sz="1600" spc="-1" strike="noStrike">
                <a:solidFill>
                  <a:srgbClr val="ff0000"/>
                </a:solidFill>
                <a:latin typeface="Verdana"/>
              </a:rPr>
              <a:t>Materiali funzionali: 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52440" indent="-352440">
              <a:lnSpc>
                <a:spcPct val="50000"/>
              </a:lnSpc>
              <a:spcBef>
                <a:spcPts val="901"/>
              </a:spcBef>
              <a:spcAft>
                <a:spcPts val="201"/>
              </a:spcAft>
              <a:tabLst>
                <a:tab algn="l" pos="0"/>
                <a:tab algn="l" pos="334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1" lang="it-IT" sz="16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1" lang="it-IT" sz="16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1" lang="it-IT" sz="16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1" lang="it-IT" sz="16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1" lang="it-IT" sz="16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1" lang="it-IT" sz="16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1" lang="it-IT" sz="1600" spc="-1" strike="noStrike">
                <a:solidFill>
                  <a:srgbClr val="ff0000"/>
                </a:solidFill>
                <a:latin typeface="Verdana"/>
              </a:rPr>
              <a:t>nuove possibilità applicative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52440" indent="-352440">
              <a:lnSpc>
                <a:spcPct val="50000"/>
              </a:lnSpc>
              <a:spcBef>
                <a:spcPts val="901"/>
              </a:spcBef>
              <a:spcAft>
                <a:spcPts val="201"/>
              </a:spcAft>
              <a:tabLst>
                <a:tab algn="l" pos="0"/>
                <a:tab algn="l" pos="334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52440" indent="-352440">
              <a:lnSpc>
                <a:spcPct val="50000"/>
              </a:lnSpc>
              <a:spcBef>
                <a:spcPts val="901"/>
              </a:spcBef>
              <a:spcAft>
                <a:spcPts val="201"/>
              </a:spcAft>
              <a:tabLst>
                <a:tab algn="l" pos="0"/>
                <a:tab algn="l" pos="334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52440" indent="-352440">
              <a:lnSpc>
                <a:spcPct val="50000"/>
              </a:lnSpc>
              <a:spcBef>
                <a:spcPts val="901"/>
              </a:spcBef>
              <a:spcAft>
                <a:spcPts val="201"/>
              </a:spcAft>
              <a:tabLst>
                <a:tab algn="l" pos="0"/>
                <a:tab algn="l" pos="334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52440" indent="-352440">
              <a:spcBef>
                <a:spcPts val="901"/>
              </a:spcBef>
              <a:spcAft>
                <a:spcPts val="201"/>
              </a:spcAft>
              <a:tabLst>
                <a:tab algn="l" pos="0"/>
                <a:tab algn="l" pos="334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Verdana"/>
              </a:rPr>
              <a:t>(Dopo)domani  </a:t>
            </a:r>
            <a:r>
              <a:rPr b="1" lang="it-IT" sz="16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1" lang="it-IT" sz="16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1" lang="it-IT" sz="16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1" lang="it-IT" sz="16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1" lang="it-IT" sz="1600" spc="-1" strike="noStrike">
                <a:solidFill>
                  <a:srgbClr val="ff0000"/>
                </a:solidFill>
                <a:latin typeface="Verdana"/>
              </a:rPr>
              <a:t>Nanotecnologie: dalla </a:t>
            </a:r>
            <a:r>
              <a:rPr b="1" lang="it-IT" sz="16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1" lang="it-IT" sz="16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1" lang="it-IT" sz="16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1" lang="it-IT" sz="16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1" lang="it-IT" sz="16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1" lang="it-IT" sz="1600" spc="-1" strike="noStrike">
                <a:solidFill>
                  <a:srgbClr val="ff0000"/>
                </a:solidFill>
                <a:latin typeface="Verdana"/>
              </a:rPr>
              <a:t>                          ricerca ai nuovi prodotti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52440" indent="-352440">
              <a:spcBef>
                <a:spcPts val="901"/>
              </a:spcBef>
              <a:spcAft>
                <a:spcPts val="201"/>
              </a:spcAft>
              <a:tabLst>
                <a:tab algn="l" pos="0"/>
                <a:tab algn="l" pos="334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52440" indent="-352440">
              <a:spcBef>
                <a:spcPts val="901"/>
              </a:spcBef>
              <a:spcAft>
                <a:spcPts val="201"/>
              </a:spcAft>
              <a:tabLst>
                <a:tab algn="l" pos="0"/>
                <a:tab algn="l" pos="334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52440" indent="-352440">
              <a:spcBef>
                <a:spcPts val="901"/>
              </a:spcBef>
              <a:spcAft>
                <a:spcPts val="201"/>
              </a:spcAft>
              <a:tabLst>
                <a:tab algn="l" pos="0"/>
                <a:tab algn="l" pos="334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1" lang="it-IT" sz="16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1" lang="it-IT" sz="16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1" lang="it-IT" sz="16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1" lang="it-IT" sz="1600" spc="-1" strike="noStrike">
                <a:solidFill>
                  <a:srgbClr val="ff0000"/>
                </a:solidFill>
                <a:latin typeface="Verdana"/>
              </a:rPr>
              <a:t>	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cxnSp>
        <p:nvCxnSpPr>
          <p:cNvPr id="456" name="Connettore 2 13"/>
          <p:cNvCxnSpPr/>
          <p:nvPr/>
        </p:nvCxnSpPr>
        <p:spPr>
          <a:xfrm>
            <a:off x="2556000" y="2133360"/>
            <a:ext cx="1620000" cy="10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457" name="Connettore 2 14"/>
          <p:cNvCxnSpPr/>
          <p:nvPr/>
        </p:nvCxnSpPr>
        <p:spPr>
          <a:xfrm>
            <a:off x="2556000" y="3212640"/>
            <a:ext cx="1620000" cy="10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458" name="Connettore 2 15"/>
          <p:cNvCxnSpPr/>
          <p:nvPr/>
        </p:nvCxnSpPr>
        <p:spPr>
          <a:xfrm>
            <a:off x="2556000" y="4581000"/>
            <a:ext cx="1620000" cy="10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459" name="Text Box 3"/>
          <p:cNvSpPr/>
          <p:nvPr/>
        </p:nvSpPr>
        <p:spPr>
          <a:xfrm>
            <a:off x="4788000" y="6583320"/>
            <a:ext cx="435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Presentazione Corsi a scelta II Livello – 9 settembre </a:t>
            </a:r>
            <a:r>
              <a:rPr b="1" lang="ja-JP" sz="1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0" name="Picture 4" descr=""/>
          <p:cNvPicPr/>
          <p:nvPr/>
        </p:nvPicPr>
        <p:blipFill>
          <a:blip r:embed="rId1"/>
          <a:srcRect l="12493" t="0" r="16711" b="0"/>
          <a:stretch/>
        </p:blipFill>
        <p:spPr>
          <a:xfrm>
            <a:off x="623880" y="4290840"/>
            <a:ext cx="2519280" cy="1919520"/>
          </a:xfrm>
          <a:prstGeom prst="rect">
            <a:avLst/>
          </a:prstGeom>
          <a:ln w="0">
            <a:noFill/>
          </a:ln>
        </p:spPr>
      </p:pic>
      <p:sp>
        <p:nvSpPr>
          <p:cNvPr id="461" name="Rectangle 3"/>
          <p:cNvSpPr/>
          <p:nvPr/>
        </p:nvSpPr>
        <p:spPr>
          <a:xfrm>
            <a:off x="635040" y="1111320"/>
            <a:ext cx="79693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0000"/>
                </a:solidFill>
                <a:latin typeface="Verdana"/>
              </a:rPr>
              <a:t>Materiali funzionali </a:t>
            </a:r>
            <a:r>
              <a:rPr b="1" lang="it-IT" sz="1800" spc="-1" strike="noStrike">
                <a:solidFill>
                  <a:srgbClr val="ff0000"/>
                </a:solidFill>
                <a:latin typeface="Verdana"/>
              </a:rPr>
              <a:t>– Smart Materials: cosa sono, come funzionano e applicazioni</a:t>
            </a:r>
            <a:r>
              <a:rPr b="1" lang="it-IT" sz="28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2" name="Text Box 3"/>
          <p:cNvSpPr/>
          <p:nvPr/>
        </p:nvSpPr>
        <p:spPr>
          <a:xfrm>
            <a:off x="991800" y="158760"/>
            <a:ext cx="682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3300"/>
                </a:solidFill>
                <a:latin typeface="Arial"/>
              </a:rPr>
              <a:t>Corsi a scelta Laurea Magistrale - 2° semestre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63" name="Picture 2" descr=""/>
          <p:cNvPicPr/>
          <p:nvPr/>
        </p:nvPicPr>
        <p:blipFill>
          <a:blip r:embed="rId2"/>
          <a:srcRect l="5576" t="0" r="11214" b="0"/>
          <a:stretch/>
        </p:blipFill>
        <p:spPr>
          <a:xfrm>
            <a:off x="635040" y="1835280"/>
            <a:ext cx="2496960" cy="2314440"/>
          </a:xfrm>
          <a:prstGeom prst="rect">
            <a:avLst/>
          </a:prstGeom>
          <a:ln w="0">
            <a:noFill/>
          </a:ln>
        </p:spPr>
      </p:pic>
      <p:pic>
        <p:nvPicPr>
          <p:cNvPr id="464" name="Immagine 1" descr=""/>
          <p:cNvPicPr/>
          <p:nvPr/>
        </p:nvPicPr>
        <p:blipFill>
          <a:blip r:embed="rId3"/>
          <a:srcRect l="25817" t="14235" r="24739" b="19706"/>
          <a:stretch/>
        </p:blipFill>
        <p:spPr>
          <a:xfrm>
            <a:off x="3254400" y="4083120"/>
            <a:ext cx="2387520" cy="2127240"/>
          </a:xfrm>
          <a:prstGeom prst="rect">
            <a:avLst/>
          </a:prstGeom>
          <a:ln w="0">
            <a:noFill/>
          </a:ln>
        </p:spPr>
      </p:pic>
      <p:pic>
        <p:nvPicPr>
          <p:cNvPr id="465" name="Picture 2" descr="3"/>
          <p:cNvPicPr/>
          <p:nvPr/>
        </p:nvPicPr>
        <p:blipFill>
          <a:blip r:embed="rId4"/>
          <a:srcRect l="0" t="10799" r="0" b="5665"/>
          <a:stretch/>
        </p:blipFill>
        <p:spPr>
          <a:xfrm>
            <a:off x="5764320" y="1844640"/>
            <a:ext cx="2806560" cy="2305080"/>
          </a:xfrm>
          <a:prstGeom prst="rect">
            <a:avLst/>
          </a:prstGeom>
          <a:ln w="0">
            <a:noFill/>
          </a:ln>
        </p:spPr>
      </p:pic>
      <p:pic>
        <p:nvPicPr>
          <p:cNvPr id="466" name="Picture 4" descr="tape2"/>
          <p:cNvPicPr/>
          <p:nvPr/>
        </p:nvPicPr>
        <p:blipFill>
          <a:blip r:embed="rId5"/>
          <a:srcRect l="0" t="13821" r="11547" b="0"/>
          <a:stretch/>
        </p:blipFill>
        <p:spPr>
          <a:xfrm>
            <a:off x="5738760" y="4287960"/>
            <a:ext cx="2832120" cy="1922400"/>
          </a:xfrm>
          <a:prstGeom prst="rect">
            <a:avLst/>
          </a:prstGeom>
          <a:ln w="0">
            <a:noFill/>
          </a:ln>
        </p:spPr>
      </p:pic>
      <p:pic>
        <p:nvPicPr>
          <p:cNvPr id="467" name="Immagine 2" descr=""/>
          <p:cNvPicPr/>
          <p:nvPr/>
        </p:nvPicPr>
        <p:blipFill>
          <a:blip r:embed="rId6"/>
          <a:srcRect l="4445" t="0" r="34173" b="8685"/>
          <a:stretch/>
        </p:blipFill>
        <p:spPr>
          <a:xfrm>
            <a:off x="3254400" y="1805040"/>
            <a:ext cx="2397240" cy="2139840"/>
          </a:xfrm>
          <a:prstGeom prst="rect">
            <a:avLst/>
          </a:prstGeom>
          <a:ln w="0">
            <a:noFill/>
          </a:ln>
        </p:spPr>
      </p:pic>
      <p:sp>
        <p:nvSpPr>
          <p:cNvPr id="468" name="Text Box 3"/>
          <p:cNvSpPr/>
          <p:nvPr/>
        </p:nvSpPr>
        <p:spPr>
          <a:xfrm>
            <a:off x="4788000" y="6583320"/>
            <a:ext cx="435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Presentazione Corsi a scelta II Livello – 9 settembre </a:t>
            </a:r>
            <a:r>
              <a:rPr b="1" lang="ja-JP" sz="1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Text Box 3"/>
          <p:cNvSpPr/>
          <p:nvPr/>
        </p:nvSpPr>
        <p:spPr>
          <a:xfrm>
            <a:off x="991800" y="158760"/>
            <a:ext cx="682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3300"/>
                </a:solidFill>
                <a:latin typeface="Arial"/>
              </a:rPr>
              <a:t>Corsi a scelta Laurea Magistrale - 2° semestre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70" name="Picture 10" descr=""/>
          <p:cNvPicPr/>
          <p:nvPr/>
        </p:nvPicPr>
        <p:blipFill>
          <a:blip r:embed="rId1"/>
          <a:srcRect l="0" t="38604" r="0" b="19180"/>
          <a:stretch/>
        </p:blipFill>
        <p:spPr>
          <a:xfrm>
            <a:off x="34920" y="2133720"/>
            <a:ext cx="8940960" cy="3527280"/>
          </a:xfrm>
          <a:prstGeom prst="rect">
            <a:avLst/>
          </a:prstGeom>
          <a:ln w="0">
            <a:noFill/>
          </a:ln>
        </p:spPr>
      </p:pic>
      <p:sp>
        <p:nvSpPr>
          <p:cNvPr id="471" name="Rectangle 3"/>
          <p:cNvSpPr/>
          <p:nvPr/>
        </p:nvSpPr>
        <p:spPr>
          <a:xfrm>
            <a:off x="635040" y="1111320"/>
            <a:ext cx="5943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0000"/>
                </a:solidFill>
                <a:latin typeface="Verdana"/>
              </a:rPr>
              <a:t>Nanotecnologie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2" name="Rettangolo 10"/>
          <p:cNvSpPr/>
          <p:nvPr/>
        </p:nvSpPr>
        <p:spPr>
          <a:xfrm>
            <a:off x="4913280" y="1733400"/>
            <a:ext cx="370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040"/>
                </a:solidFill>
                <a:latin typeface="Arial"/>
                <a:ea typeface="Arial"/>
              </a:rPr>
              <a:t>Mondo Naturale</a:t>
            </a: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3" name="Rettangolo 12"/>
          <p:cNvSpPr/>
          <p:nvPr/>
        </p:nvSpPr>
        <p:spPr>
          <a:xfrm>
            <a:off x="593640" y="1731960"/>
            <a:ext cx="370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040"/>
                </a:solidFill>
                <a:latin typeface="Arial"/>
                <a:ea typeface="Arial"/>
              </a:rPr>
              <a:t>Mondo Artificiale</a:t>
            </a: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4" name="Text Box 3"/>
          <p:cNvSpPr/>
          <p:nvPr/>
        </p:nvSpPr>
        <p:spPr>
          <a:xfrm>
            <a:off x="4788000" y="6583320"/>
            <a:ext cx="435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Presentazione Corsi a scelta II Livello – 9 settembre </a:t>
            </a:r>
            <a:r>
              <a:rPr b="1" lang="ja-JP" sz="1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Text Box 3"/>
          <p:cNvSpPr/>
          <p:nvPr/>
        </p:nvSpPr>
        <p:spPr>
          <a:xfrm>
            <a:off x="991800" y="158760"/>
            <a:ext cx="682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3300"/>
                </a:solidFill>
                <a:latin typeface="Arial"/>
              </a:rPr>
              <a:t>Corsi a scelta Laurea Magistrale - 2° semestre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6" name="Rectangle 3"/>
          <p:cNvSpPr/>
          <p:nvPr/>
        </p:nvSpPr>
        <p:spPr>
          <a:xfrm>
            <a:off x="635040" y="1111320"/>
            <a:ext cx="44416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Verdana"/>
              </a:rPr>
              <a:t>Concept di applicazione di nanotecnologie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7" name="Rettangolo 3"/>
          <p:cNvSpPr/>
          <p:nvPr/>
        </p:nvSpPr>
        <p:spPr>
          <a:xfrm>
            <a:off x="4913280" y="1130400"/>
            <a:ext cx="3706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040"/>
                </a:solidFill>
                <a:latin typeface="Arial"/>
                <a:ea typeface="Arial"/>
              </a:rPr>
              <a:t>Nokia Research Center (NRC) &amp; Cambridge Nanoscience Centre </a:t>
            </a:r>
            <a:r>
              <a:rPr b="1" lang="it-IT" sz="1400" spc="-1" strike="noStrike">
                <a:solidFill>
                  <a:srgbClr val="404040"/>
                </a:solidFill>
                <a:latin typeface="Arial"/>
                <a:ea typeface="Arial"/>
              </a:rPr>
              <a:t>2008 – Morph Concept</a:t>
            </a: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78" name="Immagine 12" descr=""/>
          <p:cNvPicPr/>
          <p:nvPr/>
        </p:nvPicPr>
        <p:blipFill>
          <a:blip r:embed="rId1"/>
          <a:srcRect l="2230" t="6173" r="4186" b="3099"/>
          <a:stretch/>
        </p:blipFill>
        <p:spPr>
          <a:xfrm>
            <a:off x="2916360" y="4111560"/>
            <a:ext cx="5759280" cy="2094120"/>
          </a:xfrm>
          <a:prstGeom prst="rect">
            <a:avLst/>
          </a:prstGeom>
          <a:ln w="0">
            <a:noFill/>
          </a:ln>
        </p:spPr>
      </p:pic>
      <p:pic>
        <p:nvPicPr>
          <p:cNvPr id="479" name="Immagine 13" descr=""/>
          <p:cNvPicPr/>
          <p:nvPr/>
        </p:nvPicPr>
        <p:blipFill>
          <a:blip r:embed="rId2"/>
          <a:srcRect l="2425" t="26908" r="0" b="26908"/>
          <a:stretch/>
        </p:blipFill>
        <p:spPr>
          <a:xfrm>
            <a:off x="2916360" y="1943280"/>
            <a:ext cx="5789520" cy="2055600"/>
          </a:xfrm>
          <a:prstGeom prst="rect">
            <a:avLst/>
          </a:prstGeom>
          <a:ln w="0">
            <a:noFill/>
          </a:ln>
        </p:spPr>
      </p:pic>
      <p:pic>
        <p:nvPicPr>
          <p:cNvPr id="480" name="Immagine 14" descr=""/>
          <p:cNvPicPr/>
          <p:nvPr/>
        </p:nvPicPr>
        <p:blipFill>
          <a:blip r:embed="rId3"/>
          <a:srcRect l="0" t="0" r="65849" b="0"/>
          <a:stretch/>
        </p:blipFill>
        <p:spPr>
          <a:xfrm>
            <a:off x="395280" y="2087640"/>
            <a:ext cx="2376360" cy="4078080"/>
          </a:xfrm>
          <a:prstGeom prst="rect">
            <a:avLst/>
          </a:prstGeom>
          <a:ln w="0">
            <a:noFill/>
          </a:ln>
        </p:spPr>
      </p:pic>
      <p:sp>
        <p:nvSpPr>
          <p:cNvPr id="481" name="Text Box 3"/>
          <p:cNvSpPr/>
          <p:nvPr/>
        </p:nvSpPr>
        <p:spPr>
          <a:xfrm>
            <a:off x="4788000" y="6583320"/>
            <a:ext cx="435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Presentazione Corsi a scelta II Livello – 9 settembre </a:t>
            </a:r>
            <a:r>
              <a:rPr b="1" lang="ja-JP" sz="1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Text Box 3"/>
          <p:cNvSpPr/>
          <p:nvPr/>
        </p:nvSpPr>
        <p:spPr>
          <a:xfrm>
            <a:off x="991800" y="158760"/>
            <a:ext cx="682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3300"/>
                </a:solidFill>
                <a:latin typeface="Arial"/>
              </a:rPr>
              <a:t>Corsi a scelta Laurea Magistrale - 2° semestre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3" name="Rectangle 3"/>
          <p:cNvSpPr/>
          <p:nvPr/>
        </p:nvSpPr>
        <p:spPr>
          <a:xfrm>
            <a:off x="635040" y="1111320"/>
            <a:ext cx="5943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84" name="Immagine 1" descr=""/>
          <p:cNvPicPr/>
          <p:nvPr/>
        </p:nvPicPr>
        <p:blipFill>
          <a:blip r:embed="rId1"/>
          <a:srcRect l="8436" t="0" r="15669" b="0"/>
          <a:stretch/>
        </p:blipFill>
        <p:spPr>
          <a:xfrm>
            <a:off x="635040" y="2855880"/>
            <a:ext cx="4187880" cy="3100320"/>
          </a:xfrm>
          <a:prstGeom prst="rect">
            <a:avLst/>
          </a:prstGeom>
          <a:ln w="0">
            <a:noFill/>
          </a:ln>
        </p:spPr>
      </p:pic>
      <p:pic>
        <p:nvPicPr>
          <p:cNvPr id="485" name="Immagine 5" descr=""/>
          <p:cNvPicPr/>
          <p:nvPr/>
        </p:nvPicPr>
        <p:blipFill>
          <a:blip r:embed="rId2"/>
          <a:srcRect l="0" t="14128" r="0" b="0"/>
          <a:stretch/>
        </p:blipFill>
        <p:spPr>
          <a:xfrm>
            <a:off x="5022720" y="4076640"/>
            <a:ext cx="3851280" cy="2236680"/>
          </a:xfrm>
          <a:prstGeom prst="rect">
            <a:avLst/>
          </a:prstGeom>
          <a:ln w="0">
            <a:noFill/>
          </a:ln>
        </p:spPr>
      </p:pic>
      <p:pic>
        <p:nvPicPr>
          <p:cNvPr id="486" name="Immagine 7" descr=""/>
          <p:cNvPicPr/>
          <p:nvPr/>
        </p:nvPicPr>
        <p:blipFill>
          <a:blip r:embed="rId3"/>
          <a:srcRect l="0" t="0" r="0" b="4009"/>
          <a:stretch/>
        </p:blipFill>
        <p:spPr>
          <a:xfrm>
            <a:off x="5022720" y="1192320"/>
            <a:ext cx="3851280" cy="2741400"/>
          </a:xfrm>
          <a:prstGeom prst="rect">
            <a:avLst/>
          </a:prstGeom>
          <a:ln w="0">
            <a:noFill/>
          </a:ln>
        </p:spPr>
      </p:pic>
      <p:sp>
        <p:nvSpPr>
          <p:cNvPr id="487" name="Rettangolo 9"/>
          <p:cNvSpPr/>
          <p:nvPr/>
        </p:nvSpPr>
        <p:spPr>
          <a:xfrm>
            <a:off x="1114560" y="6081840"/>
            <a:ext cx="370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404040"/>
                </a:solidFill>
                <a:latin typeface="Arial"/>
                <a:ea typeface="Arial"/>
              </a:rPr>
              <a:t>Samsung 2013 – Oled Smartphone</a:t>
            </a: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8" name="Text Box 3"/>
          <p:cNvSpPr/>
          <p:nvPr/>
        </p:nvSpPr>
        <p:spPr>
          <a:xfrm>
            <a:off x="4788000" y="6583320"/>
            <a:ext cx="435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Presentazione Corsi a scelta II Livello – 9 settembre </a:t>
            </a:r>
            <a:r>
              <a:rPr b="1" lang="ja-JP" sz="1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2"/>
          <p:cNvSpPr/>
          <p:nvPr/>
        </p:nvSpPr>
        <p:spPr>
          <a:xfrm>
            <a:off x="668160" y="1039680"/>
            <a:ext cx="5943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Verdana"/>
              </a:rPr>
              <a:t>Struttura del corso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0" name="Rectangle 6"/>
          <p:cNvSpPr/>
          <p:nvPr/>
        </p:nvSpPr>
        <p:spPr>
          <a:xfrm>
            <a:off x="611280" y="1574640"/>
            <a:ext cx="8154720" cy="18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126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Verdana"/>
                <a:ea typeface="ＭＳ Ｐゴシック"/>
              </a:rPr>
              <a:t>_lezioni ex cathedra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126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Verdana"/>
                <a:ea typeface="ＭＳ Ｐゴシック"/>
              </a:rPr>
              <a:t>_seminari e incontri con aziende e docenti esperti del  settore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126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126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Verdana"/>
                <a:ea typeface="ＭＳ Ｐゴシック"/>
              </a:rPr>
              <a:t>_esercitazioni e lavoro di approfondimento finale (pubblicato su www.alchimag.net)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126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126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126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126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Verdana"/>
                <a:ea typeface="ＭＳ Ｐゴシック"/>
              </a:rPr>
              <a:t>_Esame scritto a fine corso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126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Verdana"/>
                <a:ea typeface="ＭＳ Ｐゴシック"/>
              </a:rPr>
              <a:t>_Lavoro di approfondimento (in gruppo) obbligatorio per frequentanti e non frequentanti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126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1" name="Rectangle 2"/>
          <p:cNvSpPr/>
          <p:nvPr/>
        </p:nvSpPr>
        <p:spPr>
          <a:xfrm>
            <a:off x="611280" y="3814920"/>
            <a:ext cx="5943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Verdana"/>
              </a:rPr>
              <a:t>Modalità di esame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2" name="Text Box 3"/>
          <p:cNvSpPr/>
          <p:nvPr/>
        </p:nvSpPr>
        <p:spPr>
          <a:xfrm>
            <a:off x="991800" y="158760"/>
            <a:ext cx="682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3300"/>
                </a:solidFill>
                <a:latin typeface="Arial"/>
              </a:rPr>
              <a:t>Corsi a scelta Laurea Magistrale - 2° semestre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3" name="Text Box 3"/>
          <p:cNvSpPr/>
          <p:nvPr/>
        </p:nvSpPr>
        <p:spPr>
          <a:xfrm>
            <a:off x="4788000" y="6583320"/>
            <a:ext cx="435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Presentazione Corsi a scelta II Livello – 9 settembre </a:t>
            </a:r>
            <a:r>
              <a:rPr b="1" lang="ja-JP" sz="1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Text Box 3"/>
          <p:cNvSpPr/>
          <p:nvPr/>
        </p:nvSpPr>
        <p:spPr>
          <a:xfrm>
            <a:off x="991800" y="158760"/>
            <a:ext cx="682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3300"/>
                </a:solidFill>
                <a:latin typeface="Arial"/>
              </a:rPr>
              <a:t>Corsi a scelta Laurea Magistrale - 2° semestre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5" name="Rettangolo 8"/>
          <p:cNvSpPr/>
          <p:nvPr/>
        </p:nvSpPr>
        <p:spPr>
          <a:xfrm>
            <a:off x="4788000" y="1130400"/>
            <a:ext cx="3832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404040"/>
                </a:solidFill>
                <a:latin typeface="Arial"/>
                <a:ea typeface="Arial"/>
              </a:rPr>
              <a:t>EAPs, Polimeri elettroattivi – </a:t>
            </a: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404040"/>
                </a:solidFill>
                <a:latin typeface="Arial"/>
                <a:ea typeface="Arial"/>
              </a:rPr>
              <a:t>Papile, Cosco, Zefilippo, de Almeida</a:t>
            </a: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404040"/>
                </a:solidFill>
                <a:latin typeface="Arial"/>
                <a:ea typeface="Arial"/>
              </a:rPr>
              <a:t>A.A. 2013/2014</a:t>
            </a: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96" name="Immagine 2" descr=""/>
          <p:cNvPicPr/>
          <p:nvPr/>
        </p:nvPicPr>
        <p:blipFill>
          <a:blip r:embed="rId1"/>
          <a:srcRect l="0" t="0" r="24753" b="3470"/>
          <a:stretch/>
        </p:blipFill>
        <p:spPr>
          <a:xfrm>
            <a:off x="635040" y="1887480"/>
            <a:ext cx="4873680" cy="4442040"/>
          </a:xfrm>
          <a:prstGeom prst="rect">
            <a:avLst/>
          </a:prstGeom>
          <a:ln w="0">
            <a:noFill/>
          </a:ln>
        </p:spPr>
      </p:pic>
      <p:pic>
        <p:nvPicPr>
          <p:cNvPr id="497" name="Immagine 3" descr=""/>
          <p:cNvPicPr/>
          <p:nvPr/>
        </p:nvPicPr>
        <p:blipFill>
          <a:blip r:embed="rId2"/>
          <a:srcRect l="53369" t="0" r="2691" b="3469"/>
          <a:stretch/>
        </p:blipFill>
        <p:spPr>
          <a:xfrm>
            <a:off x="5597640" y="1887480"/>
            <a:ext cx="3151080" cy="4442040"/>
          </a:xfrm>
          <a:prstGeom prst="rect">
            <a:avLst/>
          </a:prstGeom>
          <a:ln w="0">
            <a:noFill/>
          </a:ln>
        </p:spPr>
      </p:pic>
      <p:sp>
        <p:nvSpPr>
          <p:cNvPr id="498" name="Rectangle 3"/>
          <p:cNvSpPr/>
          <p:nvPr/>
        </p:nvSpPr>
        <p:spPr>
          <a:xfrm>
            <a:off x="635040" y="1111320"/>
            <a:ext cx="5943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Verdana"/>
              </a:rPr>
              <a:t>Lavoro approfondimento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9" name="Text Box 3"/>
          <p:cNvSpPr/>
          <p:nvPr/>
        </p:nvSpPr>
        <p:spPr>
          <a:xfrm>
            <a:off x="4788000" y="6583320"/>
            <a:ext cx="435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Presentazione Corsi a scelta II Livello – 9 settembre </a:t>
            </a:r>
            <a:r>
              <a:rPr b="1" lang="ja-JP" sz="1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08T13:48:10Z</dcterms:created>
  <dc:creator>Silvia</dc:creator>
  <dc:description/>
  <dc:language>en-US</dc:language>
  <cp:lastModifiedBy>Barbara Del Curto</cp:lastModifiedBy>
  <cp:lastPrinted>2003-05-08T11:08:41Z</cp:lastPrinted>
  <dcterms:modified xsi:type="dcterms:W3CDTF">2014-07-30T10:55:53Z</dcterms:modified>
  <cp:revision>223</cp:revision>
  <dc:subject/>
  <dc:title>Inserire immagine della locandina, possibilmente in trasparenza e aggiungere Facoltà di Architettura Illustrazione prova di ammissione prof. Silvia Piardi (idem Cedolin)</dc:title>
</cp:coreProperties>
</file>